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7CD5-B75F-4E00-B49E-57AF7DB8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B5AB-D5E1-4BF5-B0B9-B5B8EA05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85DF-DDE8-4D37-9904-F881C2BB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1FE0-F897-42D5-8CEC-2632E0F8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D5B3-A1AE-4680-AE02-A9D7E611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7E4-CB16-4DE1-A4B0-2795F564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0029-FB0E-49BB-8280-49FF8284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A965-ED46-4B7B-BAF4-78182C6C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722-D72F-455B-A98D-01564A8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BFA9-6A3C-49DD-8FC4-8468CDF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607-9CD9-4106-995B-CF6D78A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FE64-AC99-48FB-B000-CEA714A0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7053-AA95-4989-892B-4807B69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BB26-3804-4964-B353-F00F51F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F3C-4C1F-4C88-AD30-9F0F1E63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B4E3-7BF6-44A4-856B-8895371F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7A6-EFEB-47B1-8901-7524A3DF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FEB5-C982-45D6-96C7-4AC351F5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6D59-65FE-4D3E-B436-DBABCD2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23BC-F58F-48C6-92C4-7B07EF2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A4EC-C1F5-470D-B101-88EEA76A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C712-30D2-41EF-9B60-2CA5477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9449-5EE2-4221-9BCB-F7A3044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E1CE-C132-4CC3-B210-285F930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9DA-62B1-415E-812E-A1CA0D977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5DBA-B1ED-45EB-8CAB-C87F6A46A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g and Pork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in spot markets for hogs (Lawrence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ught mostly through production contracts, using quality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tricting alternative marketing arrangements harm both producers and consumers (RTI 2007; Wohlgenant 2010; Zheng and Vukina 2009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ult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 degree of vertical integration in poult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ly concentrated, numerous anticompetitive concerns: tournament pricing, single processor, holdup risk, short contra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ower grower prices only in monopsonistic environments (Vukina and Leegomonchai 2006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integrators, many growers leads to lack of regulatory response (Vukina and Leegomonchai (2006b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i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very large bottlers and processors, large milk marketing cooperatives, many fewer dairy f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milk price regulated by federal milk marketing orders (FMM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MMO are detrimental as a monopoly or oligopoly (Chouinard et al. 2010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-ops raise plant pay price 9% above the FMMO minimum price (Cakir and Balagtas 2012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level milk pricing is very complex (Paggi and Nicholson, Chapter 9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od Retailing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dominant decision maker in the global food supply chain (Kinsey, Chapter 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ntration driven by product differentiation to satisfy consumer demand for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verall market performance favo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rket power efficiency losses small (Marion 1986, Sexton 2000, Saitone and Sexton 20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distributive impacts harm producers and consumers (Sexton 201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eak market power at nation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iotech seed companies capture large share of the economic surpl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eef processors capture technical efficiency gains; impose community/environmental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rk similar to beef impacts, but consumers gain from greater convenience, low cost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nopolistic buyers hurt some producers; consumers benefit from dynamic product choi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structure helps producers, hurts consumers; concentrated processors benef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exercise limited market power;  consumers benefit some from prices and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ies for Countervailing Power and Trade Practice Regu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stablished programs currently well sui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often face oligoposonistic mark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40% of sales contracted (MacDonald and Korb 20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about market structure and trading practices having antitrust, anticompetitive and consumer implications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cies for Countervailing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apper-Volstead Act provides limited antitrust immunity to growers in cooper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Not used effectively recently (Sexton 2000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Discussed for milk in depth (Knutson and Cropp, Chapter 5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Agricultural Fair Practic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oducer right to join cooperative associations is protected from interfe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Weak in practice (Vukina and Leegomonchai 2006b; Knutson and Cropp (Chapter 5)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mmodity Futures Trading Commi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ssures usefulness of futures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role in increased agricultural commodity price volatil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lack of convergence between cash and futures prices at contract matur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TC Bureau of Consumer Prote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tect consumers against unfair, deceptive, or fraudulent practices in the marketpla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nforce truth-in-advertising la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essure over advertising and childhood 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posals to implement excise taxes to raise prices, decrease consumption of soft drink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ternative proposals to increase education about a healthy die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RKET STRUCTURE, TRADE PRACTICE REGULATION, AND COMPETITION POLIC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ackers and Stockyard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tains multiple regulatory provis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gulates contracts in animal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SA actions relatively weak over the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lows firms to capture a greater share of gains derived from new technolog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erishable Agricultural Commoditie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motes fair trade in the fresh and frozen fruit and vegetable indus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to be paid promptly and fully for perishable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ACA requirements are sufficient to handle vast majority of issue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anadian industry working hard to get something akin to PACA esta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United States Warehouse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license warehouse operators who store agricultural produ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Voluntary program: observe the rules for licensing, and pay associated user fe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nding requirements assure money available to pay the value d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s functioning of the marke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ederal Seed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terstate shipment of agricultural and vegetable see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abeled truthfully to allow informed bu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Keeping up with technology for identifying biotechnology traits in seed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that 50/50 states partners cu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cess verification programs enhance commer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untry of Origin Label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quires certain retailers inform their customers of the origin of products being purch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c studies support, question val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TO: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OOL violates global trade rules and unjustly harms agricultural commerce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uture of COOL will likely continue to be controversial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Egg Products Inspection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spections of shell egg handlers to control the disposition of loss and under-grade eg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s information to the marketing system that only quality eggs are offered for sa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FSIS and FDA share authority for egg safety: control </a:t>
            </a:r>
            <a:r>
              <a:rPr b="0" i="1" lang="en-US" sz="3200" spc="-1" strike="noStrike">
                <a:solidFill>
                  <a:srgbClr val="ffff66"/>
                </a:solidFill>
                <a:latin typeface="Garamond"/>
              </a:rPr>
              <a:t>Salmonella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Enteriditis (SE) in eg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ed for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better government interagency collaboration? 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Livestock Mandatory Reporting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 information transparency to help producers/feeders obtain better pr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Questionable effect on better prices from highly concentrated packing fi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Increased transparency and information at the national level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(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Koontz and Ward 2011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Also reduced price information in regional markets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boundary for seed IPR-related exclusivity and antitrust-prohibited exclusionary 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crease policy enforcement to balance poultry processors’ vs. growers’ influence in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place current formula pricing system for milk with direct reporting of pay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OJ monitor dominant cooperatives for anticompetitive pract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DOJ vs. USDA roles to enforce antitrust provisions for cooperatives’ limited exem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aluate potential benefits of enforcing antitrust prohibitions in local/smaller reg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st policies/programs adjust reasonably well to market evolution and remain releva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ngthen PSA enforcement on unfair or discriminatory actions by buyers and provide better market information on contract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evaluate the content of the COOL regulations and how they impact trading partn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Food And Agricultural Markets Evol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Larger farms and marketing fir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increased the scope of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imit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Regulate trade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evolved sufficiently that still releva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ind workable alternatives to provide producers disaggregated and actionable LMRA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 and promote electronic trading in live anim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.S. food and agricultural production and marketing system is efficient and 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ome government intervention is needed to maintain a well functioning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amline or eliminate unproductively overlapping/duplicative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intain policies and regulations critical to facilitating efficient functioning of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.S. programs adequate in today’s global market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mpacts of changing market 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to provide countervailing pow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rade practice regul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ptions for improving effectivene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reater public-private sector collabor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earch and education to foster improved market performa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Structure, Integration and Contract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olved from traditional spot markets to negotiated agre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ften less transparent, based on product attributes, small base price, and payments for production serv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tential beneficial, and less benign,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gricultural products prone to market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overnment intervention may be nee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itrust Laws Impacting Agricultural and Food Mark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Sherman Antitrust Act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of 1890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layton Act of 1914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ederal Trade Commission Act of 19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010 Departments of Justice and Agriculture Competition Workshop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eed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ivestock markets: beef, hogs and pork, poul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ood reta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eds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biotechnology seed industry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Antitrust law-intellectual property (IP) law bal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Use to deter entry and R&amp;D spe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ocietal tradeoffs positive (Moschini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and complex industry implications (Fernandez-Cornejo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ow licensing arrangements impact competition is an emerging issue (Stiegert et al. 2010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fficult economic effects involved (Moschini 2010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ef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xed beef revolution in late 1960s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w system of pric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cale economies drive consolidation (MacDonald and Ollinger 2005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es led to purchasing more cattle though alternative pricing arrangements 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5-30T03:12:14Z</dcterms:modified>
  <cp:revision>56</cp:revision>
  <dc:subject/>
  <dc:title>U.S. Policies Affecting Food and Agricultural Marketing</dc:title>
</cp:coreProperties>
</file>